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46A-A813-464F-A068-94E62F18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AC0-97EE-468B-89B8-FEF72D4E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395-5D3D-42C6-BB49-0E5D6596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248-2F4C-4506-B641-128F48A0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347B-ED82-4CA4-9C21-BE3E5798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3D8-A980-4451-A513-4CE6B4BB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DF5-00FE-486F-BD3F-5635F7CF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4909-4285-46BA-BE8F-B8B31958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8405-686B-427E-887A-B9882246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BC3-8E2C-439E-A8BE-E124A940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CAA-611B-4117-86E8-2B688C83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F0E-1232-43F2-B7D0-1D096CF1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8FE3-AF94-4186-A4CE-A0C9A7A19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а недеља наставе,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09 ТОКСИКОЛОГИЈА – КЛИНИЧКИ, ЕКОЛОШКИ И ЕКСПЕРИМЕНТАЛНИ АСПЕК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98989"/>
                </a:solidFill>
                <a:latin typeface="Calibri"/>
              </a:rPr>
              <a:t>проф. </a:t>
            </a:r>
            <a:r>
              <a:rPr b="1" lang="en-US" sz="1800" spc="-1" strike="noStrike">
                <a:solidFill>
                  <a:srgbClr val="898989"/>
                </a:solidFill>
                <a:latin typeface="Calibri"/>
              </a:rPr>
              <a:t>Слободан Јанкови</a:t>
            </a:r>
            <a:r>
              <a:rPr b="1" lang="sr-CS" sz="1800" spc="-1" strike="noStrike">
                <a:solidFill>
                  <a:srgbClr val="898989"/>
                </a:solidFill>
                <a:latin typeface="Calibri"/>
              </a:rPr>
              <a:t>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чење конвул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о бензодиазепини нису прекинули статус епилептикус, може се дати фенитоин интравенски у дози од 15-20 мг/кг, брзином од 20-50 мг у мину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енитоин је инкомпатибилан са растворима глукозе и другим лековима, па га треба применити кроз посебну венску линију. Ако дође до екстравазације, шака дистално од места примене постане плаво-љубичаста, а затим едематозна (синдром „плаво-љубичасте рукавице“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енитоин може изазвати аритмије и хипотензију код старијих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 40 година (због растварача пропилен-гликол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место фенитоина може се давати његов про-лек фосфенитоин, који је растворљив у води, па се не меша са пропилен-гликолом. Почетна доза фосфенитоина је 15-20мг/кг, а даје се брзином и до 150мг/м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чење конвул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о се не могу применити фенитоин или фосфенитоин, рефрактерни статус епилептикус може добро реаговати на фенобарбитал,10-20 мг/кг интравенски, брзином до 100мг/мину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енобарбитал је растворен у 60-80% пропилен-гликолу, који може изазвати депресију миокарда или инсуфицијенцију бубре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ВИ КОЈИ ИЗАЗИВАЈУ КО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нотици и седати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оз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хистамини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оп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психоти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ои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ВИ КОЈИ ИЗАЗИВАЈУ КО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гликемијски лек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ма бутиролак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ма хидроксибутир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ицил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и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итал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ектициди или родентици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ВИ КОЈИ ИЗАЗИВАЈУ КО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3" marL="1536120" indent="-219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ски детерџ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lnSpc>
                <a:spcPct val="100000"/>
              </a:lnSpc>
              <a:spcBef>
                <a:spcPts val="799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, Hg, P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lnSpc>
                <a:spcPct val="100000"/>
              </a:lnSpc>
              <a:spcBef>
                <a:spcPts val="799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lnSpc>
                <a:spcPct val="100000"/>
              </a:lnSpc>
              <a:spcBef>
                <a:spcPts val="799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на кисе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lnSpc>
                <a:spcPct val="100000"/>
              </a:lnSpc>
              <a:spcBef>
                <a:spcPts val="799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фта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lnSpc>
                <a:spcPct val="100000"/>
              </a:lnSpc>
              <a:spcBef>
                <a:spcPts val="799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атон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lnSpc>
                <a:spcPct val="100000"/>
              </a:lnSpc>
              <a:spcBef>
                <a:spcPts val="799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а (taxus bacca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lnSpc>
                <a:spcPct val="100000"/>
              </a:lnSpc>
              <a:spcBef>
                <a:spcPts val="799"/>
              </a:spcBef>
              <a:buClr>
                <a:srgbClr val="fc3c28"/>
              </a:buClr>
              <a:buFont typeface="Monotype Sorts 2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ута (cicuta macula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чење ко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мењивати лекове који стимулишу мозак у лечењу ко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ност дисајних пут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а вентил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кул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 се мора опсервирати све до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изације св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 виталних параметара и стања св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чење ко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скултација плућа и аспирација секр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теризација мокраћне бешике и мерење диуре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љање интравенског катетера за примену ле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мл 50% раствора глукозе (деци 2мл/кг 25% глукоз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вати претерану примену течности због развоја едема моз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чење ко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ретати пацијента, масирати му кожу и аспирирати дисајне путе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а хидр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реме препознати инфекцију и применити антибиот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кома траје &gt; 48h , ентерална или парентерална исхр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интубације урадити лаважу желуца са активним угљ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3c28"/>
              </a:buClr>
              <a:buFont typeface="Monotype Sort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дијализа код дијализибилних отр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тички кодекс фармацеута Срб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асник Р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6/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ви принцип регулише дужности фармацеута које се тичу безбедности примене лекова, превенције и лечења тр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нцип 1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1. Фармацеут поседује нарочито знање и стручност о лековима и медицинским средствима, те се од њега очекује да примени своје знање и стручност за добробит својих пацијена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ЛЕЧЕЊЕ ПОСЛЕДИЦА ТРОВА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нцип 1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да процени да је то у интересу пацијента, фармацеут је дужан да правовремено упути пацијента код најмеродавнијег здравственог стручњака поштујући принцип аутономије пацијента, као и принцип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примум нон ноцер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нцип 1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армацеут је дужан да у границама своје стручне оспособљености спречи неправилно лечење пацијента, када процени да је то у интересу здравља пацијента и да се о овоме консултује са лекаром (посебно код лекова и медицинских средстава који се издају на рецепт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нцип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1. Фармацеут је морално одговоран да информише пацијенте о доступности фармацеутске здравствене заштите, пружајући својим пацијентима на пријемчив и разумљив начин прецизне и јасне информације утемељене на научним сазнањима. Фармацеут који се, вођен својом савести, противи обезбеђивању појединих фармацеутских услуга и/или издавању одређених фармацеутских производа, мора да буде спреман да образложи разлоге свог моралног противљења свом претпостављеном, а никако пацијент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мпромитован дисајни пу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убитак заштитних рефлекса дисајних путева због тр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асност о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падања јез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спирације садржаја желу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станка дис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а је компромитован дисајни пут спроводи се ендотрахеална интуб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естанак дис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ровести ендотрахеалну интубац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ирати пацијента Амбу-балоном до прикључења на вентила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есити на вентилатор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2 до 16 удисаја на мин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исајни волумен од 15 милилитара на килограм телесне теж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центрација кисеоника око 3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лућни ед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рдиогени еде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уросемид 80 мг и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орфин 4 мг и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троглицерол 5-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/минут, у виду интравенске инфу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бећи преоптерећење пацијента течношћ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о се болесник вештачки вентилира, подесити на апарату позитиван притисак на крају експирију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ећати концентрацију кисеоника да би се парцијални притисак одржао на 70 милиметара живиног сту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отензија и ш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равенска инфузија кристалоидних раствора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–20 mL/k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о је пацијент у хипотермији, загрејати га топлим покривач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памин, у виду интравенске инфузије (разблажити у раствору 5% глукозе). Почетна доза је 2-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/кг/мин, и може се повећавати до 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/кг/м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рити централни венски притисак, и ако је низак додати течности у инфузи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радреналин, ако је низак системски васкуларни отпор, 4 – 8 микрограма на минут, интравенс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астој ср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рдио-пулмонална реани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реналин 0.3 мг интравенски; може се поновити после сваких 5-10 минута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 примене разблажити садржај ампуле 1: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карбонати, 8.4% раствор, 1 мл/кг интравенс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о је застој срца настао због фибрилације комора, урадити дефибрилацију, а затим применити лидокаин, 1 мг/кг интравен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чење конвул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езбедити проходност дисајних путева, и применити кисеони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фузија кристалоидних изотоничних раство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нити 50мл 50% глукозе интравенски, заједно са 250мг тиамина (вит. Б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азепам примењујемо интравенски, а ако не можемо да обезбедимо венски приступ, онда ректално, као микроклизму (постоји посебан препарат). Доза диазепама је 10 м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ако се диазепам споро метаболише у јетри, због брзе дистрибуције и опадања концентрације у крви дејство му пролази после око пола сата, па се може десити да се прекинути статус епилептикус поново јав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чење конвул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оразепам је мање липосолубилан од диазепама, тако да је дистрибуција лека мање изражена, а тиме дејство траје дуже (6-12h). Код одраслих се примењује 4мг лоразеп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дазолам, иницијална интравенска доза је 0,2мг/кг. Лек се може дати и интрамускуларно (10мг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2:11:43Z</dcterms:created>
  <dc:creator> </dc:creator>
  <dc:description/>
  <dc:language>en-US</dc:language>
  <cp:lastModifiedBy>Slobodan Jankovic</cp:lastModifiedBy>
  <dcterms:modified xsi:type="dcterms:W3CDTF">2013-01-26T18:00:26Z</dcterms:modified>
  <cp:revision>73</cp:revision>
  <dc:subject/>
  <dc:title>Принципи хемодијализе, форсиране диурезе и хемоперфузије</dc:title>
</cp:coreProperties>
</file>